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9ED-A562-4BC4-B1E9-7D01BF1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E67-3CEA-48C8-B73E-84B32A9B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1DC-A1B0-40BC-99D2-88E95C3A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38F-B740-440E-B602-0A2527CB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D81B-A896-4CBC-AEC3-0577D592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55C-CBDB-4FD1-B645-53EAACC1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140-3EC9-4F58-B943-F55F9FE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502-9796-40D2-AF49-FB134CF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F48-67EB-4EAD-B29D-6821E2DC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AF2-3B4A-48DB-99ED-B190969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3E79-93ED-4F7F-8EB2-0790212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BB4-280B-4F4A-B626-C155E5F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C260-779A-4014-BB58-31DF382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954-5F75-47D1-83D0-37C3BA2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CEA-B75B-4338-8849-18C231C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7D9C-3518-467E-8D7D-8F3516B1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59A-7F6E-491E-9E5F-676E4BC5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773-A55E-4874-B31C-4295DF1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E82-C91B-4C87-966B-ACE21E59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1E7-9DAD-439F-A063-63F138D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FF8-0232-46CC-A4B2-6B77A451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4F1-C4AD-4C60-B199-ED8CF49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706-7522-4060-82D1-636E9E9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28-92A5-464C-81F7-58917D5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4A8-C1A0-45BD-89E9-1803F128F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79280"/>
            <a:ext cx="186048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C591-38D9-42E9-9739-4BA0AF50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1640" y="441000"/>
            <a:ext cx="2773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EPIRB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1736640"/>
            <a:ext cx="49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worldwide link to  emergency servic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649440" y="484200"/>
            <a:ext cx="33609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proof to 10m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deploy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a easily rewoun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emergency rescueME EPIRB1 provides three methods of communicating your location ensuring maximum chance of surviva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ink via Satellite to emergency servic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oming Beacon to aid final location by Search and Rescue Craf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igh intensity strob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882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3090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5321160"/>
            <a:ext cx="900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836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The EPIRB1 is the ideal safety product for smaller vessels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Quick Release Mounting Bracke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asily packed in your grab bag or mounted for easy access to carry off in emergency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1476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Whether you are at sea or on land, the </a:t>
            </a: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rescueME EPIRB1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provides the reassurance that the emergency services can be alerted by the press of a butt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Brochures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rescueME EPIRB1 Brochur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Handy A6 fold out design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Other languages available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2097000"/>
            <a:ext cx="32086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e following marketing materials are Currently availabl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Dummi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uture marketing materials planned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int of Sale Display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EPIRB1 is supplied in full colour retail pack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Adverts (Full, half and quarter page)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ster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Web Presence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Ocean Signal Websit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International Organisation to monitor 406MHz distress alert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Currently 6 LEOSAR satellites in polar orbi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6 GEOSAR satellit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5004000" cy="2509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LEOSAR satellites use Doppler processing to determine beacon posi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Low accuracy, typically &lt;5nm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Slow, usually requiring two pass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Downlink not globally availab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GEOSAR provides near instant alerting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Coverage within ~70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°S and ~70°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7" name="" descr="GEOSARMarch2013"/>
          <p:cNvPicPr/>
          <p:nvPr/>
        </p:nvPicPr>
        <p:blipFill>
          <a:blip r:embed="rId1"/>
          <a:stretch/>
        </p:blipFill>
        <p:spPr>
          <a:xfrm>
            <a:off x="395280" y="3753000"/>
            <a:ext cx="5805360" cy="289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68760" y="4365720"/>
            <a:ext cx="457524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34320" y="2023920"/>
            <a:ext cx="2209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EPIRB Comparison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33680"/>
          <a:ext cx="8351640" cy="3487680"/>
        </p:xfrm>
        <a:graphic>
          <a:graphicData uri="http://schemas.openxmlformats.org/drawingml/2006/table">
            <a:tbl>
              <a:tblPr/>
              <a:tblGrid>
                <a:gridCol w="1378080"/>
                <a:gridCol w="1163520"/>
                <a:gridCol w="1163520"/>
                <a:gridCol w="1162080"/>
                <a:gridCol w="1162080"/>
                <a:gridCol w="1160640"/>
                <a:gridCol w="1161720"/>
              </a:tblGrid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rescueME EPIR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afeSea E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G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GME MT403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KTi SA1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CR Globalfix P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SSP P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5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7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u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Fully retractable anten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Battery replacement interv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Operational li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 hours (ty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66 channel G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55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2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Covered Lany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08360" y="1773360"/>
            <a:ext cx="216000" cy="79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36520" cy="86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064360" y="1511280"/>
            <a:ext cx="335160" cy="1054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384720" y="1736640"/>
            <a:ext cx="245880" cy="8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0640"/>
            <a:ext cx="55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1d4db"/>
                </a:solidFill>
                <a:latin typeface="Arial"/>
              </a:rPr>
              <a:t>* items include service and battery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92360" y="483408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83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7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03640" y="454500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303640" y="483408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303640" y="2133720"/>
            <a:ext cx="22356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5080" y="1692360"/>
            <a:ext cx="141120" cy="907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136000" y="6345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303640" y="335772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27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3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59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12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136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85080" y="454500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98508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282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EPIRB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smalles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ergency Position Indicating Radio Beacon 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s device has not been authorized as required by the rules of the Federal Communications Commission. This device is not, and may not be, offered for sale or lease, or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old or leased, until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authorization is obtained.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f October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 by volume than the competitors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And Lighter!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The world’s most compact EPIRB can always be on hand, as its small size allows it to be easily placed in a grab bag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tate of the art storage lif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Reduced cost of ownership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ong Life – Less Hass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Battery can be replaced at recognised battery replacement centres when expired or use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6360" y="395928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Gives the customer confidence that it will work when needed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Warranty, subject to terms and conditions, covers manufacturing defect in material and workmanship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6360" y="465300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6360" y="3968640"/>
            <a:ext cx="826920" cy="6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6360" y="328464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34320" y="202392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l out to activate or tes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rewind after us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2000" y="2313000"/>
            <a:ext cx="2808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4-10-21T13:27:44Z</dcterms:modified>
  <cp:revision>141</cp:revision>
  <dc:subject/>
  <dc:title>rescueME PLB1</dc:title>
</cp:coreProperties>
</file>